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B9D-046E-4C21-AA0F-1727BF5D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CB1-AF49-4A1F-9871-BED29BA7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CC6-EEFD-408D-9F1C-413A1FFC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DEE-1270-42BF-ACDE-1B2A451C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23F3-4766-4FDA-9B36-2F4F16DC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1022-D0FC-484B-AEAC-26378B47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C981-8CCA-4C72-BD42-D0D38782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6589-825A-4842-83C3-C2D50BCA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4C5F-7C44-4D8A-A1CF-247C90B2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0A65-ECF1-4E1D-870B-E968D2AA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8B85-B5DD-4C26-B8C7-B69580E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0B1-7B92-42A6-ACC7-E41FB0EC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20BB-6480-4C5E-BCFB-A0047CAA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A191-E4C8-4286-BBC0-ACB809B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569D-B413-4341-AAD7-A403A807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A24A-AFCB-4F24-846A-143B29E2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AE3A-DAD0-4F9F-B08C-A50CEF06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67B-CA00-4643-B26E-8A895FF0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D41-1FC7-4B8A-8EED-25E1B7B1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2FF-B81D-467A-B4DF-9F3F3705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184-7526-45DA-BC10-6822DC68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933-7E78-4FB9-80DC-8BE1B22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40A-9E01-46C9-A3EB-4F2761D3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109-5BE5-4910-9325-44EF1077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3EAB-27FB-41DB-929E-99D54BE24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92E5-0C36-4DAE-BA4E-1556719CC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nimal Research Projec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o turn 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quired It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Point that covers all of the following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rther investigative pos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note about the experience (+ / ∆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oking for the “A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photos of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 clips of the experimenta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o clips discussing the analysis of th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any supportive evidence from other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 complete experiment to test any new hypothesis to your initial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resent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present your powerpoint to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minute m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To be informat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quired Item #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ull lab report written in the format given to you at the beginning of the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information must be included in absolute detai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D document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include all earlier documents as an appendix to the final re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4:04:37Z</dcterms:created>
  <dc:creator>joconnor</dc:creator>
  <dc:description/>
  <dc:language>en-US</dc:language>
  <cp:lastModifiedBy>joconnor</cp:lastModifiedBy>
  <dcterms:modified xsi:type="dcterms:W3CDTF">2010-02-05T14:13:58Z</dcterms:modified>
  <cp:revision>1</cp:revision>
  <dc:subject/>
  <dc:title>Animal Research Project</dc:title>
</cp:coreProperties>
</file>